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3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DF28-9266-4B14-836C-0EA24654C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9D3B-112D-465E-9C8D-2ECDE5131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2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2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sr-Latn-CS" sz="1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E6D5-0879-4071-B04A-841394813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7D86-EB68-4EF5-80C3-F42C81E26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D5C1-3EFE-4278-A4D3-FAB566732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</a:t>
            </a:r>
            <a:r>
              <a:rPr b="0" lang="sr-CS" sz="1200" spc="-1" strike="noStrike">
                <a:solidFill>
                  <a:srgbClr val="000000"/>
                </a:solidFill>
                <a:latin typeface="Arial"/>
              </a:rPr>
              <a:t> грађ</a:t>
            </a: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8EFC-5D76-4D8B-A5C0-5048D1C88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8B98-859B-4555-A969-4316539D6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0B1D3-3E9C-4368-9E7E-C251CD983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F658-4E7D-4034-8E7F-01AB2F56C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AD33-0312-4E20-AF1D-1A4E5A34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E8A6-FA83-45E6-B48E-4DF645CD9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7B3CB-10B5-41E4-A113-7A8EEE7D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8DB21-7E75-4E79-A19A-38B147139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9741-DDFC-4E37-B024-8F13EAE69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1929-F23C-4625-97A5-111AB2B3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1CF4F-859E-47EC-AE99-087C9FF31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07CED-88B4-4457-94C4-DE9845006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A41E-BA97-46CF-A0C1-F987BB4236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8109-73CB-422D-B32F-2605013E9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FE00-DEB6-4781-B325-C5FE303E9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07CD-1B4F-49AB-A3AD-23C6FC906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95ACE-1F8C-4162-8F50-3E3AE267F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FC3C-3B81-4C31-96FC-533DBCE68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331A8-0097-43DC-8307-90035BCA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F41A8-0D9E-4F33-B668-5138C337E3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Internet je najveća postojeća grupa međusobno povezanih računara. To je enormno velika globalna računarska mreža sačinjena od preko hiljadu manjih mreža od kojih svaka koristi TCP/IP protokol za međusobno komuniciranje, a svi dele istu šemu adresiranja. Sa Interneta se mogu preuzimati podaci tekstovi, slike, zvukovi, animacije, programi, razmenjivati različite vrste informacija, ali obavljati i direktni telefonski razgovori i video konverzaci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E63-E893-4CB6-AF4E-7435C1232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F12A-89CF-4EEC-8FAC-DB343B9C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96D9-129B-4003-806E-6F90428F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0480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73680"/>
            <a:ext cx="264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922-E8B1-4FBF-80DC-924333F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2AEC-B2C2-484C-B42D-A762F8CD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057-799F-4215-A9C1-C0E9816E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061F-B40E-41D3-AC3D-7344CA7B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3E8-419B-4454-AFC9-7C1EA699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25520" y="122040"/>
            <a:ext cx="8261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5AE9-810B-4D9D-B2A9-BA2B088D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906E-4360-41D1-8F81-58DC343B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7368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5D20-5BCD-4700-9970-7C63862C8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04800"/>
            <a:ext cx="40158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73680"/>
            <a:ext cx="8229600" cy="22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C058-9182-458C-AEFE-03C01544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0" y="6454800"/>
            <a:ext cx="9144000" cy="4032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424560"/>
            <a:ext cx="36464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редавање бр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05200"/>
            <a:ext cx="289584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нформа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9720" y="650520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DB297-7F6B-4A0B-81B4-07FCEA12AB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3720" y="1268280"/>
            <a:ext cx="8218800" cy="0"/>
          </a:xfrm>
          <a:prstGeom prst="line">
            <a:avLst/>
          </a:prstGeom>
          <a:ln w="38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9"/>
          <p:cNvSpPr/>
          <p:nvPr/>
        </p:nvSpPr>
        <p:spPr>
          <a:xfrm>
            <a:off x="423720" y="1312920"/>
            <a:ext cx="4186440" cy="0"/>
          </a:xfrm>
          <a:prstGeom prst="line">
            <a:avLst/>
          </a:prstGeom>
          <a:ln w="381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Date Placeholder 2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3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4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2BAF9-6D1D-4E47-BE8F-7E4311FF24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053800"/>
            <a:ext cx="9144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sr-CS" sz="4000" spc="-1" strike="noStrike">
                <a:solidFill>
                  <a:srgbClr val="000066"/>
                </a:solidFill>
                <a:latin typeface="Palatino Linotype"/>
              </a:rPr>
              <a:t>ХЕМОСТАЗА У ОРАЛНОЈ ХИРУРГИЈИ</a:t>
            </a:r>
            <a:r>
              <a:rPr b="1" lang="en-US" sz="4000" spc="-1" strike="noStrike">
                <a:solidFill>
                  <a:srgbClr val="000066"/>
                </a:solidFill>
                <a:latin typeface="Palatino Linotype"/>
              </a:rPr>
              <a:t>     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1120" y="4060440"/>
            <a:ext cx="864252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Назив предмета: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5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Час</a:t>
            </a:r>
            <a:r>
              <a:rPr b="1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 12-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Тематске јединице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Нормална хемостаза, крварење, вештачка хемостаза, обољења са 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lang="sr-CS" sz="1400" spc="-1" strike="noStrike">
                <a:solidFill>
                  <a:srgbClr val="000000"/>
                </a:solidFill>
                <a:latin typeface="Palatino Linotype"/>
              </a:rPr>
              <a:t>хеморагијским синдром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                  </a:t>
            </a:r>
            <a:r>
              <a:rPr b="0" lang="fr-FR" sz="14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Palatino Linotype"/>
              </a:rPr>
              <a:t>Припремио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: </a:t>
            </a:r>
            <a:r>
              <a:rPr b="0" lang="sr-Latn-CS" sz="1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1" i="1" lang="sr-CS" sz="1400" spc="-1" strike="noStrike">
                <a:solidFill>
                  <a:srgbClr val="000000"/>
                </a:solidFill>
                <a:latin typeface="Palatino Linotype"/>
              </a:rPr>
              <a:t>Доц. др Мирослав Васови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936720" y="3838680"/>
            <a:ext cx="4782960" cy="1440"/>
          </a:xfrm>
          <a:prstGeom prst="line">
            <a:avLst/>
          </a:prstGeom>
          <a:ln w="38160">
            <a:solidFill>
              <a:srgbClr val="fee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0" y="0"/>
            <a:ext cx="9144000" cy="194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0" y="1995480"/>
            <a:ext cx="914400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582480" y="6180120"/>
            <a:ext cx="7861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Copyright © 201</a:t>
            </a:r>
            <a:r>
              <a:rPr b="0" lang="sr-Latn-RS" sz="1000" spc="-1" strike="noStrike">
                <a:solidFill>
                  <a:srgbClr val="000000"/>
                </a:solidFill>
                <a:latin typeface="Palatino Linotype"/>
              </a:rPr>
              <a:t>9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 – Факултет медицинских наука Универзитета у Крагујевцу. Копирање и умножавање није дозвољено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emo grb copy"/>
          <p:cNvPicPr/>
          <p:nvPr/>
        </p:nvPicPr>
        <p:blipFill>
          <a:blip r:embed="rId1"/>
          <a:stretch/>
        </p:blipFill>
        <p:spPr>
          <a:xfrm>
            <a:off x="209520" y="166680"/>
            <a:ext cx="8737560" cy="160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Date Placeholder 3"/>
          <p:cNvSpPr/>
          <p:nvPr/>
        </p:nvSpPr>
        <p:spPr>
          <a:xfrm>
            <a:off x="0" y="6424560"/>
            <a:ext cx="3989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51D2-7783-4A84-8A59-F0B924EF1B7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457200" y="1407960"/>
            <a:ext cx="81453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ци крварења могу да се подел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УЗРОЦИ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оследица обољења који се једним именом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хеморагијски синд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и могу да се одразе на све три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о су оштећени зидови крвног суда  ( дијабетес, хеморагијска телеангиектазија ) продужена је прва васкуларна ф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оцитопенија, тромбоцитостенија и антиагрегациона терапијаимају последице на друг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или недостатак неког фактора коагулације ( хемофилија А) изазива поремећај коагулацијске ф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50B7-A5E5-43A5-BC23-006D85AC1C4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Узроц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493560" y="1986120"/>
            <a:ext cx="8145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ОКАЛНИ УЗРОК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арења је повреда крвних судова и кости богатој крвним судов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тога је атрауматски рад, по основним принципима хируршког рада, најбоља превенција интраоперативног и постоперативног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злог за секундарно крварење може да буде фибринолиза формираног коагулума.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C38B-1EF6-4977-8A53-20A88D0FD3E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469800" y="1781280"/>
            <a:ext cx="8120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Palatino Linotype"/>
              </a:rPr>
              <a:t>K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варења се деле према: узроку настанка, месту где се крв излива, крвним судовима из којих се излива, времену настанка, јачини, току и механизму наста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зрок – најчешће трауматски и патолошка крварењ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сто – спољашње крварење и унутрашњ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ада се крв излива и локализује у поткожном и подслузокожном ткиву клинички се манифестује као: петехије,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екхимозе, вабицес или хема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Типови крварењ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0" y="6424560"/>
            <a:ext cx="40035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ABE1-257C-4CC9-B1E2-9E9D3572D08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457200" y="179244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дносу на повређени крвни суд крварења могу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ртеријска, венска, капиларна и паренхиматоз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реме настанка – примарна крварења, секундарна крвар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настанка – због промена на крвном суду (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rhex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дејства механичке силе 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r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, због патолошких промен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bro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бог патолошке пропустљивости неповређених крвних судова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per diapedesin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25160" y="122040"/>
            <a:ext cx="8418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977C-B932-4F31-AD29-9130009840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457200" y="1503360"/>
            <a:ext cx="82296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 посебног интереса за стоматологију су крварења која се јављају у току вађења зуба и орално-хируршких интервенција, као и после њ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току рада у устима, најчешће су изложене повредама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palatina major, a. alveolaris inferior et a. lingual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извору, постекстракциона крварења се деле на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ингив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шт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ериодонта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Крварења у стоматолог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Date Placeholder 3"/>
          <p:cNvSpPr/>
          <p:nvPr/>
        </p:nvSpPr>
        <p:spPr>
          <a:xfrm>
            <a:off x="0" y="6424560"/>
            <a:ext cx="38242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ADF3-DF5C-4828-8775-2321D1127DE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>
            <a:off x="457200" y="1973160"/>
            <a:ext cx="8182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Гингив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е карактеришу слабим интезитетом, али могу да буду дуготрајна. Посебно су учестала и интезивна из инфламиране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тог разлога се хируршке интервенције избегавају у фази акутног запаљења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шта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крварења настају отварањем нутритивних крвних судова у коштаним каналић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ериодонтална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крварења су интезивна и чешће се јављају из периодонцијума бочних, вишекорених зуб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0" y="6424560"/>
            <a:ext cx="3851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C51-DC8F-4EE3-BF3B-56D794FFDAF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480960" y="1852560"/>
            <a:ext cx="8169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мера и поступака које предузима лекар, односно хирург, у циљу заустављања крварења назива се вештачка или артефицијална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тоди за дефинитивну хемостазу, у основи, деле се на механичке, хемијске, биолошке и физич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Date Placeholder 3"/>
          <p:cNvSpPr/>
          <p:nvPr/>
        </p:nvSpPr>
        <p:spPr>
          <a:xfrm>
            <a:off x="0" y="6424560"/>
            <a:ext cx="40734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2789-D392-41EC-ABBB-9F89EAFE093D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53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504720" y="1841400"/>
            <a:ext cx="80852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МЕХАНИЧ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гитална компрес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притисак прстима на крвни су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a. labialis inferior et superior, a. facialis. a. dorsalis nasi, a. supraorbitalis </a:t>
            </a:r>
            <a:r>
              <a:rPr b="0" lang="en-US" sz="2000" spc="-1" strike="noStrike">
                <a:solidFill>
                  <a:srgbClr val="000000"/>
                </a:solidFill>
                <a:latin typeface="Palatino Linotype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9" descr="C:\Users\Zoran\Downloads\oralna hirurgija\slike\imagesmj.jpg"/>
          <p:cNvPicPr/>
          <p:nvPr/>
        </p:nvPicPr>
        <p:blipFill>
          <a:blip r:embed="rId1"/>
          <a:stretch/>
        </p:blipFill>
        <p:spPr>
          <a:xfrm>
            <a:off x="2662200" y="3949560"/>
            <a:ext cx="396576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3"/>
          <p:cNvSpPr/>
          <p:nvPr/>
        </p:nvSpPr>
        <p:spPr>
          <a:xfrm>
            <a:off x="0" y="6424560"/>
            <a:ext cx="3713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A4A7-51E1-4A10-8F4A-99BBE6F1977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TextBox 6"/>
          <p:cNvSpPr/>
          <p:nvPr/>
        </p:nvSpPr>
        <p:spPr>
          <a:xfrm>
            <a:off x="1166760" y="194940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480960" y="1792440"/>
            <a:ext cx="8109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Површн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метод се рутински користи у свакодневној стоматолошкој пракси после вађења зу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C:\Users\Zoran\Downloads\oralna hirurgija\slike\download (15).jpg"/>
          <p:cNvPicPr/>
          <p:nvPr/>
        </p:nvPicPr>
        <p:blipFill>
          <a:blip r:embed="rId1"/>
          <a:stretch/>
        </p:blipFill>
        <p:spPr>
          <a:xfrm>
            <a:off x="2408400" y="3462480"/>
            <a:ext cx="4143240" cy="26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245B3-09B7-4659-B6FB-31FEA561463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493560" y="1697040"/>
            <a:ext cx="815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убока тампон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C:\Users\Zoran\Downloads\oralna hirurgija\slike\imagesfgggfd.jpg"/>
          <p:cNvPicPr/>
          <p:nvPr/>
        </p:nvPicPr>
        <p:blipFill>
          <a:blip r:embed="rId1"/>
          <a:stretch/>
        </p:blipFill>
        <p:spPr>
          <a:xfrm>
            <a:off x="2446200" y="2590920"/>
            <a:ext cx="4130640" cy="320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31C70-1ECF-457A-85B3-AFE34AE68B8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493560" y="1768320"/>
            <a:ext cx="80964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уп процеса које регулишу непропустљивост и затварање повређеног крвног суда назива се хемостаз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здравом организму постоји равнотежа између два стално присутна  и активна антагонистичка механизма –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оагулациј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 </a:t>
            </a: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олизе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хемостазе подразумева очување свих елемената и фактора хемостазе у квантитативном и квалитативном смис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( крвне судове, тромбоците и факторе коагулације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ремећај било ког од наведених фактора доводи до продуженог крварења из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Date Placeholder 3"/>
          <p:cNvSpPr/>
          <p:nvPr/>
        </p:nvSpPr>
        <p:spPr>
          <a:xfrm>
            <a:off x="0" y="6424560"/>
            <a:ext cx="37400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911C-D789-458E-99EE-B6E5966342AB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TextBox 7"/>
          <p:cNvSpPr/>
          <p:nvPr/>
        </p:nvSpPr>
        <p:spPr>
          <a:xfrm>
            <a:off x="469800" y="175752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Лигатура крвног 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C:\Users\Zoran\Downloads\oralna hirurgija\slike\imagesfrt.jpg"/>
          <p:cNvPicPr/>
          <p:nvPr/>
        </p:nvPicPr>
        <p:blipFill>
          <a:blip r:embed="rId1"/>
          <a:stretch/>
        </p:blipFill>
        <p:spPr>
          <a:xfrm>
            <a:off x="1982880" y="2543040"/>
            <a:ext cx="4049640" cy="29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Latn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7CE01-B9EB-48A8-804D-C68DE6A0D66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469800" y="1816200"/>
            <a:ext cx="8156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A</a:t>
            </a: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рилатна и штенц-плоч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C:\Users\Zoran\Downloads\oralna hirurgija\slike\images34.jpg"/>
          <p:cNvPicPr/>
          <p:nvPr/>
        </p:nvPicPr>
        <p:blipFill>
          <a:blip r:embed="rId1"/>
          <a:stretch/>
        </p:blipFill>
        <p:spPr>
          <a:xfrm>
            <a:off x="1663560" y="3164040"/>
            <a:ext cx="5721480" cy="266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Date Placeholder 3"/>
          <p:cNvSpPr/>
          <p:nvPr/>
        </p:nvSpPr>
        <p:spPr>
          <a:xfrm>
            <a:off x="0" y="6424560"/>
            <a:ext cx="3768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83601-F22D-419A-9B81-3AE5C82C360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Box 8"/>
          <p:cNvSpPr/>
          <p:nvPr/>
        </p:nvSpPr>
        <p:spPr>
          <a:xfrm>
            <a:off x="480960" y="1647720"/>
            <a:ext cx="813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ХЕМИЈС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хемијска једињења која имају особине да позитивно утичу на процес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различит, односно могу деловати на било коју фазу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ма дејству и начину апликације хемијски хемостатици деле се на опште и локал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BA9D-81E9-4DAA-8625-5E4F5A90A9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Box 6"/>
          <p:cNvSpPr/>
          <p:nvPr/>
        </p:nvSpPr>
        <p:spPr>
          <a:xfrm>
            <a:off x="433440" y="1792440"/>
            <a:ext cx="8145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устична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агулишу беланчевине када дођу у контакт са њи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главном се користе за крварење са рањавих површина на слузокожи и кож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з ове групе хемостатика најчешће се примењују 3% хидрог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% калијум-перманганат и 30-50% фери-хлор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Date Placeholder 3"/>
          <p:cNvSpPr/>
          <p:nvPr/>
        </p:nvSpPr>
        <p:spPr>
          <a:xfrm>
            <a:off x="0" y="6424560"/>
            <a:ext cx="42670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717CE-61B1-4026-99BE-11E1BD48AD6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82160"/>
            <a:ext cx="8701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TextBox 8"/>
          <p:cNvSpPr/>
          <p:nvPr/>
        </p:nvSpPr>
        <p:spPr>
          <a:xfrm>
            <a:off x="444600" y="1708200"/>
            <a:ext cx="8097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азоконстрикто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тичу на прву фазу хемостазе, изазивајући грчење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Њихово дејство је пролазног карактера, па се могу сматрати средствима за привремену хемостаз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е се најчешће у току операције ради постизања боље преглед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EBFE-3DFA-4321-BAA8-26B725A04D8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525600" y="1812960"/>
            <a:ext cx="81216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Цинк – окс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има благо каустичан и механички компресивни ефек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акође цинк-оксид делује и благо анестетички и антисепти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изводи се у облику праха којји се меша са еугенолом или уљем каранфилића. ( нобетец, перипак, коепак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0" descr="C:\Users\Zoran\Downloads\oralna hirurgija\slike\imagesmkmkmkm.jpg"/>
          <p:cNvPicPr/>
          <p:nvPr/>
        </p:nvPicPr>
        <p:blipFill>
          <a:blip r:embed="rId1"/>
          <a:stretch/>
        </p:blipFill>
        <p:spPr>
          <a:xfrm>
            <a:off x="206280" y="447048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1" descr="C:\Users\Zoran\Downloads\oralna hirurgija\slike\imagesvpol.jpg"/>
          <p:cNvPicPr/>
          <p:nvPr/>
        </p:nvPicPr>
        <p:blipFill>
          <a:blip r:embed="rId2"/>
          <a:stretch/>
        </p:blipFill>
        <p:spPr>
          <a:xfrm>
            <a:off x="2417760" y="4400640"/>
            <a:ext cx="2600280" cy="17622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2" descr="C:\Users\Zoran\Downloads\oralna hirurgija\slike\imageszuzuuzz.jpg"/>
          <p:cNvPicPr/>
          <p:nvPr/>
        </p:nvPicPr>
        <p:blipFill>
          <a:blip r:embed="rId3"/>
          <a:srcRect l="-1629" t="38787" r="0" b="0"/>
          <a:stretch/>
        </p:blipFill>
        <p:spPr>
          <a:xfrm>
            <a:off x="5738760" y="4427640"/>
            <a:ext cx="3167280" cy="190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3"/>
          <p:cNvSpPr/>
          <p:nvPr/>
        </p:nvSpPr>
        <p:spPr>
          <a:xfrm>
            <a:off x="0" y="6424560"/>
            <a:ext cx="39625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30C6-F336-46A0-8A07-0362EAFE3C7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493560" y="187632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Желатински препара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нцип њиховог дејства заснива се на особини да упијају крвну плазму и тромбоците. На тај начин делују позитивно на фазу коагулације крв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веома важан ефекат ових препарата је подстицање бољег зарастања рана. Период ресорбције ових препарата је 4-5 недеља.( гелатамп, геласпон, геластип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9" descr="C:\Users\Zoran\Downloads\oralna hirurgija\slike\imagesmknb.jpg"/>
          <p:cNvPicPr/>
          <p:nvPr/>
        </p:nvPicPr>
        <p:blipFill>
          <a:blip r:embed="rId1"/>
          <a:stretch/>
        </p:blipFill>
        <p:spPr>
          <a:xfrm>
            <a:off x="1781280" y="4398840"/>
            <a:ext cx="228600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0" descr="C:\Users\Zoran\Downloads\oralna hirurgija\slike\imagesfdrew.jpg"/>
          <p:cNvPicPr/>
          <p:nvPr/>
        </p:nvPicPr>
        <p:blipFill>
          <a:blip r:embed="rId2"/>
          <a:stretch/>
        </p:blipFill>
        <p:spPr>
          <a:xfrm>
            <a:off x="5818320" y="4240080"/>
            <a:ext cx="1609560" cy="19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B15BE-E09F-43CF-8319-1CD752C0E6F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469800" y="1816200"/>
            <a:ext cx="8156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Сорбацел – г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по хемијској структури калцијумом оксидисана полиглукуронска кисел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е тако што образује велику површину на којој се лако формира фибринска мрежа и коагул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9" descr="C:\Users\Zoran\Downloads\oralna hirurgija\slike\imagesgaxa.jpg"/>
          <p:cNvPicPr/>
          <p:nvPr/>
        </p:nvPicPr>
        <p:blipFill>
          <a:blip r:embed="rId1"/>
          <a:stretch/>
        </p:blipFill>
        <p:spPr>
          <a:xfrm>
            <a:off x="919080" y="4203720"/>
            <a:ext cx="2733840" cy="1676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C:\Users\Zoran\Downloads\oralna hirurgija\slike\imagesjupoo.jpg"/>
          <p:cNvPicPr/>
          <p:nvPr/>
        </p:nvPicPr>
        <p:blipFill>
          <a:blip r:embed="rId2"/>
          <a:stretch/>
        </p:blipFill>
        <p:spPr>
          <a:xfrm>
            <a:off x="5595840" y="4334040"/>
            <a:ext cx="2476440" cy="184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Date Placeholder 3"/>
          <p:cNvSpPr/>
          <p:nvPr/>
        </p:nvSpPr>
        <p:spPr>
          <a:xfrm>
            <a:off x="0" y="6424560"/>
            <a:ext cx="3865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5357-135B-4B3E-81CE-A90ECB3EC99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TextBox 9"/>
          <p:cNvSpPr/>
          <p:nvPr/>
        </p:nvSpPr>
        <p:spPr>
          <a:xfrm>
            <a:off x="469800" y="1731960"/>
            <a:ext cx="8156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ОПШТИ ХЕМИЈС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средства се примењују интравенски, интрамускуларно или перорал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еханизам дејства може бити усмерен на ремећење осмотских услова у организму, на пропустљивост крвних судова, повећано распадање тромбоцита и инхибицију процеса фибриноли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коро редовно се комбиновано користе са локалним мерама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A978B-0560-42CE-8F04-D00EAEFCA3B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9800" y="1757520"/>
            <a:ext cx="8180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0,9% раствор натријум – хлори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ристи се за надокнаду волумена течности у организ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Могућа је и примена хипертоничног раствора натријум-хлорида у концентрацији 5-6% и 40% раствора глукозе као општег хемостати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и раствори испољавају хемостатско дејство утицајем на тромбоците, повећањем њиховог распадања и утицајем на осмотске одно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097A0-E535-4051-A20A-A8D814465108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93560" y="1876320"/>
            <a:ext cx="8205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оцес нормалне хемостазе подразумева три фаз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Васкулар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оцитну ф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Фазу коагулације крв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trm1s7_1.jpg"/>
          <p:cNvPicPr/>
          <p:nvPr/>
        </p:nvPicPr>
        <p:blipFill>
          <a:blip r:embed="rId1"/>
          <a:stretch/>
        </p:blipFill>
        <p:spPr>
          <a:xfrm>
            <a:off x="2482920" y="4238640"/>
            <a:ext cx="442908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7F46-3DBA-4FBA-9D20-CB513CF0FB82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TextBox 8"/>
          <p:cNvSpPr/>
          <p:nvPr/>
        </p:nvSpPr>
        <p:spPr>
          <a:xfrm>
            <a:off x="457200" y="1528920"/>
            <a:ext cx="8182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Калцијум-хлорид и калцијум-глукон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лују тако што слепљују крвне судо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нтифибринолитици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( капрамол, циклокапрон и ПАМБА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ве су синтетске аминокиселине. Инхибишу процес претварања плазминогена у плазм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Алметекс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већава отпорн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Дициноне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– побољшава адхезивност тромбоцита и смањује пропустљивост крвних судо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07DE7-9893-4DC2-97ED-BEDFC1B3E1B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>
            <a:off x="469800" y="1684440"/>
            <a:ext cx="8145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е у синтези протромбина у јетр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ефицит овог витамина имају болесници са оштећеном јет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мена витамина К је индикована у случајевима хипопротромбонемије или продуженог протромбинског вре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0000"/>
                </a:solidFill>
                <a:latin typeface="Palatino Linotype"/>
              </a:rPr>
              <a:t>Ово се не односи на пацијенте који су на антикоагулантној терапији, тј. контраиндиковано је да се тим путем скраћује протромбинско вре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Витамин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3"/>
          <p:cNvSpPr/>
          <p:nvPr/>
        </p:nvSpPr>
        <p:spPr>
          <a:xfrm>
            <a:off x="0" y="6424560"/>
            <a:ext cx="3892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FC818-E898-419C-B18F-30C7205441D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438120" y="1616040"/>
            <a:ext cx="8242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504720" y="1731960"/>
            <a:ext cx="8121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БИОЛОШКИ МЕТОДИ ХЕМОС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Локални биолошки хемостати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ибринска пена и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у продукти хумане крви и састоје се од фибрина и тромб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сорбују се </a:t>
            </a:r>
            <a:r>
              <a:rPr b="0" i="1" lang="en-US" sz="2000" spc="-1" strike="noStrike">
                <a:solidFill>
                  <a:srgbClr val="000000"/>
                </a:solidFill>
                <a:latin typeface="Palatino Linotype"/>
              </a:rPr>
              <a:t>in situ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 Подложни су инфекциј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Хемо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парат добијен из говеђе крв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чин апликације је као и код предходног препар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21F8-9E63-41E8-833E-561AD408D0EE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Вештачк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493560" y="2165400"/>
            <a:ext cx="80964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Tipostasin I Tissu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Је фибрински лепак. Састоји се из говеђег фибрина, апротинина и калцијум-хлорида. Прва два састојка се налазе у одвојеним бризгалицама и мешају се у тренутку апликациј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Веома је ефикасан у процесу вештачке хемоста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Хемофилиј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Наследна бол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А (недостатак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Хемофилија Б и Ц (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IX, XI 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Date Placeholder 3"/>
          <p:cNvSpPr/>
          <p:nvPr/>
        </p:nvSpPr>
        <p:spPr>
          <a:xfrm>
            <a:off x="0" y="6424560"/>
            <a:ext cx="3782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oter Placeholder 4"/>
          <p:cNvSpPr/>
          <p:nvPr/>
        </p:nvSpPr>
        <p:spPr>
          <a:xfrm>
            <a:off x="3137040" y="6505560"/>
            <a:ext cx="28954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FF73-176B-4911-A2DF-E271128AE6C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Von-Wilebrantova болест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0480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д оба пола, чешће код ж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дефицит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VIII F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и поремећај функције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тромбоц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1" lang="sr-RS" sz="2400" spc="-1" strike="noStrike">
                <a:solidFill>
                  <a:srgbClr val="000000"/>
                </a:solidFill>
                <a:latin typeface="Palatino Linotype"/>
              </a:rPr>
              <a:t>Т</a:t>
            </a:r>
            <a:r>
              <a:rPr b="1" lang="sr-Latn-RS" sz="2400" spc="-1" strike="noStrike">
                <a:solidFill>
                  <a:srgbClr val="000000"/>
                </a:solidFill>
                <a:latin typeface="Palatino Linotype"/>
              </a:rPr>
              <a:t>h.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Преоперативна припрема давањем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концентрованог </a:t>
            </a:r>
            <a:r>
              <a:rPr b="0" lang="sr-Latn-RS" sz="2400" spc="-1" strike="noStrike">
                <a:solidFill>
                  <a:srgbClr val="000000"/>
                </a:solidFill>
                <a:latin typeface="Palatino Linotype"/>
              </a:rPr>
              <a:t>F VIII,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 криопреципитата и ређе </a:t>
            </a: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sr-RS" sz="2400" spc="-1" strike="noStrike">
                <a:solidFill>
                  <a:srgbClr val="000000"/>
                </a:solidFill>
                <a:latin typeface="Palatino Linotype"/>
              </a:rPr>
              <a:t>свеже смрзнуте 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Date Placeholder 3"/>
          <p:cNvSpPr/>
          <p:nvPr/>
        </p:nvSpPr>
        <p:spPr>
          <a:xfrm>
            <a:off x="0" y="6424560"/>
            <a:ext cx="3836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AA20-3754-493A-8061-006327C8990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Palatino Linotype"/>
              </a:rPr>
              <a:t>Пацијенти на антиагрегационој и  антикоагулантној терапији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49280" y="1817640"/>
            <a:ext cx="8229600" cy="47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Не укидати ниједну од ове две врсте терапије јер то може витално угрозити пациј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 Linotype"/>
              </a:rPr>
              <a:t>За антикоагулантну терапију обавезно урадити вредност INR (нормална вредност износси око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ate Placeholder 3"/>
          <p:cNvSpPr/>
          <p:nvPr/>
        </p:nvSpPr>
        <p:spPr>
          <a:xfrm>
            <a:off x="0" y="6424560"/>
            <a:ext cx="3754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1540-7579-44F4-8B0E-E869977AC8A5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Date Placeholder 3"/>
          <p:cNvSpPr/>
          <p:nvPr/>
        </p:nvSpPr>
        <p:spPr>
          <a:xfrm>
            <a:off x="0" y="6424560"/>
            <a:ext cx="3809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2D3F-E30A-454B-B4DD-2458A03DBB9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6"/>
          <p:cNvSpPr/>
          <p:nvPr/>
        </p:nvSpPr>
        <p:spPr>
          <a:xfrm>
            <a:off x="469800" y="1781280"/>
            <a:ext cx="8288280" cy="28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ВАСКУЛАР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мах након оштећења крвног суда , јављасе његова реакција ко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манифестује грчењем зида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д мањих крвних судова се на овај начин потпуно затвара лум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ог суда, док се код већих он сужа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8" descr="C:\Users\Zoran\Downloads\oralna hirurgija\slike\download (9).jpg"/>
          <p:cNvPicPr/>
          <p:nvPr/>
        </p:nvPicPr>
        <p:blipFill>
          <a:blip r:embed="rId1"/>
          <a:srcRect l="39526" t="8571" r="13558" b="54452"/>
          <a:stretch/>
        </p:blipFill>
        <p:spPr>
          <a:xfrm>
            <a:off x="3284640" y="4030560"/>
            <a:ext cx="24397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4680" y="145800"/>
            <a:ext cx="844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Date Placeholder 3"/>
          <p:cNvSpPr/>
          <p:nvPr/>
        </p:nvSpPr>
        <p:spPr>
          <a:xfrm>
            <a:off x="0" y="6424560"/>
            <a:ext cx="41418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397D-4430-41C7-BA86-EFD110F9DB1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6"/>
          <p:cNvSpPr/>
          <p:nvPr/>
        </p:nvSpPr>
        <p:spPr>
          <a:xfrm>
            <a:off x="493560" y="1865160"/>
            <a:ext cx="8169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2. ТРОМБОЦИТНА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долази до нагомилавања тромбоцита на месту повреде крвног суда. На тај начин се формира примарни тромб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бели тром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о нагомилавање тромбоцита се назива агрегациј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Након ретракције тромба обезбеђено је потпуно затварање повређ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C:\Users\Zoran\Downloads\oralna hirurgija\slike\download (9).jpg"/>
          <p:cNvPicPr/>
          <p:nvPr/>
        </p:nvPicPr>
        <p:blipFill>
          <a:blip r:embed="rId1"/>
          <a:srcRect l="39959" t="45971" r="14818" b="15132"/>
          <a:stretch/>
        </p:blipFill>
        <p:spPr>
          <a:xfrm>
            <a:off x="3513240" y="4307040"/>
            <a:ext cx="18507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71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Date Placeholder 3"/>
          <p:cNvSpPr/>
          <p:nvPr/>
        </p:nvSpPr>
        <p:spPr>
          <a:xfrm>
            <a:off x="0" y="6424560"/>
            <a:ext cx="38242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457B5-331F-4787-9B27-4B3D9E46394F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457200" y="1684440"/>
            <a:ext cx="8217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0000"/>
                </a:solidFill>
                <a:latin typeface="Palatino Linotype"/>
              </a:rPr>
              <a:t>3. КОАГУЛАЦИЈА КР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диграва се у крвној плаз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ј процес је веома сложен и у њему учествује велики број протеина плазме који се називају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фактори коагулације.( 14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учествују и фактори пореклом из тромбоцита и тк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Четири фазе коагулациј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ње тромбопласт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протромбина у тромб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етварање фибриногена у фиб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 или фибриноли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8151-8482-4053-989C-464CA14AE887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433440" y="1528920"/>
            <a:ext cx="835020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лази до активирања тромбопластина  ( крвни и ткивни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рвни тромбопластин се ослобађа из тромбоцита који се распадај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одиру са површином оштећеног крвног с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 овој фази се ослобађају и учествују фактор 3, 12, 11, 8, 9 и 5 у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исуство јона калцијума. Коначан резултат је крвни тромбопласт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Ова фаза коагулације траје 4-8 мин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Знатно бржа фаза је активација ткивног тромбопластина у к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учествују 7, 10 и 5 факто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3"/>
          <p:cNvSpPr/>
          <p:nvPr/>
        </p:nvSpPr>
        <p:spPr>
          <a:xfrm>
            <a:off x="0" y="6424560"/>
            <a:ext cx="3879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43E7-5D0E-498B-B5A9-7EF02E9F15E4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457200" y="1697040"/>
            <a:ext cx="82058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2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ни тромбопластин, у садејству јона калцијума, делује на неактивни протеин протромбин у плазми и претвара га у тромб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Palatino Linotyp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Тромбин разграђује молекуле фибриногена у активни фибр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Активирани фибрин се аутополимеризује у велике молекуле кој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граде  мрежу фибринских влакана. Ова мрежа постаје основ у којо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се задржавају крвни елементи плазме формирајући крвни угруша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C:\Users\Zoran\Downloads\oralna hirurgija\slike\download (8).jpg"/>
          <p:cNvPicPr/>
          <p:nvPr/>
        </p:nvPicPr>
        <p:blipFill>
          <a:blip r:embed="rId1"/>
          <a:srcRect l="0" t="0" r="775" b="21651"/>
          <a:stretch/>
        </p:blipFill>
        <p:spPr>
          <a:xfrm>
            <a:off x="431640" y="1746360"/>
            <a:ext cx="8380440" cy="45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e Placeholder 3"/>
          <p:cNvSpPr/>
          <p:nvPr/>
        </p:nvSpPr>
        <p:spPr>
          <a:xfrm>
            <a:off x="0" y="6424560"/>
            <a:ext cx="37958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Предавање бр. </a:t>
            </a:r>
            <a:r>
              <a:rPr b="0" lang="sr-CS" sz="1000" spc="-1" strike="noStrike">
                <a:solidFill>
                  <a:srgbClr val="000000"/>
                </a:solidFill>
                <a:latin typeface="Palatino Linotype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alatino Linotype"/>
              </a:rPr>
              <a:t>© </a:t>
            </a:r>
            <a:r>
              <a:rPr b="0" lang="ru-RU" sz="1000" spc="-1" strike="noStrike">
                <a:solidFill>
                  <a:srgbClr val="000000"/>
                </a:solidFill>
                <a:latin typeface="Palatino Linotype"/>
              </a:rPr>
              <a:t>Факултет медицинских наука Универзитета у Крагујев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4"/>
          <p:cNvSpPr/>
          <p:nvPr/>
        </p:nvSpPr>
        <p:spPr>
          <a:xfrm>
            <a:off x="3124080" y="6505560"/>
            <a:ext cx="289584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Palatino Linotype"/>
              </a:rPr>
              <a:t>Орална хирург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5"/>
          <p:cNvSpPr/>
          <p:nvPr/>
        </p:nvSpPr>
        <p:spPr>
          <a:xfrm>
            <a:off x="6580080" y="650556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68FB6-B5E8-48C9-8545-1D5E7F95A86A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5520" y="122040"/>
            <a:ext cx="826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000" spc="-1" strike="noStrike">
                <a:solidFill>
                  <a:srgbClr val="000066"/>
                </a:solidFill>
                <a:latin typeface="Palatino Linotype"/>
              </a:rPr>
              <a:t>Нормална хемостаза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469800" y="1720800"/>
            <a:ext cx="81806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 u="sng">
                <a:solidFill>
                  <a:srgbClr val="000000"/>
                </a:solidFill>
                <a:uFillTx/>
                <a:latin typeface="Palatino Linotype"/>
              </a:rPr>
              <a:t>4. ФАЗА КОАГУЛ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одразумева две врсте реакциј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Први тип реакције  је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ретракција коагулума.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Распадањем тромбоцита долази до ослобађања </a:t>
            </a:r>
            <a:r>
              <a:rPr b="1" lang="sr-CS" sz="2000" spc="-1" strike="noStrike">
                <a:solidFill>
                  <a:srgbClr val="000000"/>
                </a:solidFill>
                <a:latin typeface="Palatino Linotype"/>
              </a:rPr>
              <a:t>тромбастенина 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који се контрахује и доводи до ретракције крвног угрушка и истискивања крвног сер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Други тип реакције је да под дејством фибринолитичког ензима плазмина формирана фибринска мрежа разгради. ( </a:t>
            </a:r>
            <a:r>
              <a:rPr b="0" i="1" lang="sr-CS" sz="2000" spc="-1" strike="noStrike">
                <a:solidFill>
                  <a:srgbClr val="000000"/>
                </a:solidFill>
                <a:latin typeface="Palatino Linotype"/>
              </a:rPr>
              <a:t>процес фибринолизе )</a:t>
            </a:r>
            <a:r>
              <a:rPr b="0" lang="sr-CS" sz="2000" spc="-1" strike="noStrike">
                <a:solidFill>
                  <a:srgbClr val="000000"/>
                </a:solidFill>
                <a:latin typeface="Palatino Linotyp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20:52:51Z</dcterms:created>
  <dc:creator>Kaja</dc:creator>
  <dc:description/>
  <dc:language>en-US</dc:language>
  <cp:lastModifiedBy>Korisnik</cp:lastModifiedBy>
  <dcterms:modified xsi:type="dcterms:W3CDTF">2019-09-09T16:02:11Z</dcterms:modified>
  <cp:revision>1194</cp:revision>
  <dc:subject/>
  <dc:title>NAZIV PREDAVANJA</dc:title>
</cp:coreProperties>
</file>